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A9C-288F-415A-8309-00E226E3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459-17EF-4133-96D3-A06D049C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1B0-8BDB-4081-90DC-E243612C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1D7-00A5-4AAA-AC1F-2A5A9EF0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9BF-A32A-463A-8EB9-FBB67B0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F9F-AC6B-4E81-8BF3-0B68F5F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CC3-43C6-486C-BC49-0EED9A8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1C2-0612-43EE-A7E2-4F640F1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B67-1C07-46D6-9883-2E69BDEE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0AA-F2D2-4734-AD17-EB71B06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5BA-3350-4FB4-9F91-5311C64B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DFA-9014-4AA3-90E5-0E8A780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4EBB-9837-4A4A-B8C6-7F04BA978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1296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eeece1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TOC  </a:t>
            </a:r>
            <a:r>
              <a:rPr b="1" lang="pl-PL" sz="3600" spc="-1" strike="noStrike">
                <a:solidFill>
                  <a:srgbClr val="4f81bd"/>
                </a:solidFill>
                <a:latin typeface="Calibri"/>
              </a:rPr>
              <a:t>and</a:t>
            </a:r>
            <a:r>
              <a:rPr b="1" lang="pl-PL" sz="3600" spc="-1" strike="noStrike">
                <a:solidFill>
                  <a:srgbClr val="ddeeff"/>
                </a:solidFill>
                <a:latin typeface="Calibri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Dyslexia</a:t>
            </a:r>
            <a:br>
              <a:rPr sz="3600"/>
            </a:b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se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a way, in which they 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can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learn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blems with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learnin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  claud, branch, ambicious-target-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blems with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sequencin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bra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blems with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daylife-organising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a-t-tre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nflicts with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pe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  cl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onflicts with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teacher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pl-PL" sz="2800" spc="-1" strike="noStrike">
                <a:solidFill>
                  <a:srgbClr val="000066"/>
                </a:solidFill>
                <a:latin typeface="Calibri"/>
              </a:rPr>
              <a:t>parent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     clau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ner conflict concerns planing the futur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laud, a-t-tr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© Professor Marta Bogdanowic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5638680" y="3276720"/>
            <a:ext cx="960480" cy="287280"/>
          </a:xfrm>
          <a:prstGeom prst="rightArrow">
            <a:avLst>
              <a:gd name="adj1" fmla="val 50000"/>
              <a:gd name="adj2" fmla="val 835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657600" y="4572000"/>
            <a:ext cx="1015920" cy="338040"/>
          </a:xfrm>
          <a:prstGeom prst="rightArrow">
            <a:avLst>
              <a:gd name="adj1" fmla="val 50000"/>
              <a:gd name="adj2" fmla="val 7513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4343400" y="1905120"/>
            <a:ext cx="1042920" cy="298440"/>
          </a:xfrm>
          <a:prstGeom prst="rightArrow">
            <a:avLst>
              <a:gd name="adj1" fmla="val 50000"/>
              <a:gd name="adj2" fmla="val 873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4724280" y="2743200"/>
            <a:ext cx="1005120" cy="334800"/>
          </a:xfrm>
          <a:prstGeom prst="rightArrow">
            <a:avLst>
              <a:gd name="adj1" fmla="val 50000"/>
              <a:gd name="adj2" fmla="val 7505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5943600" y="5105520"/>
            <a:ext cx="922320" cy="323640"/>
          </a:xfrm>
          <a:prstGeom prst="rightArrow">
            <a:avLst>
              <a:gd name="adj1" fmla="val 50000"/>
              <a:gd name="adj2" fmla="val 7124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46200" y="1378080"/>
            <a:ext cx="7153200" cy="438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yslexics show specific primary symptom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61840" y="4162320"/>
            <a:ext cx="7153560" cy="371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yslexics show specific secondary symptom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7162920" y="5562720"/>
            <a:ext cx="826920" cy="323640"/>
          </a:xfrm>
          <a:prstGeom prst="rightArrow">
            <a:avLst>
              <a:gd name="adj1" fmla="val 50000"/>
              <a:gd name="adj2" fmla="val 6387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14:25:35Z</dcterms:created>
  <dc:creator>Suerken</dc:creator>
  <dc:description/>
  <dc:language>en-US</dc:language>
  <cp:lastModifiedBy>Suerken</cp:lastModifiedBy>
  <dcterms:modified xsi:type="dcterms:W3CDTF">2007-11-14T14:31:20Z</dcterms:modified>
  <cp:revision>1</cp:revision>
  <dc:subject/>
  <dc:title>TOC  and  Dyslexia ...use a way, in which they can learn... </dc:title>
</cp:coreProperties>
</file>