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18.gif" ContentType="image/gif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wmf" ContentType="image/x-wmf"/>
  <Override PartName="/ppt/media/image7.jpeg" ContentType="image/jpeg"/>
  <Override PartName="/ppt/media/image27.gif" ContentType="image/gif"/>
  <Override PartName="/ppt/media/image28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12D-9B9C-4302-8E4F-7AA6E9EC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D96-8AC0-410A-B4FF-668BA1E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FF4-906C-41F3-9E45-FBF7BED5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2DB-1215-4914-BDDB-46AEC82D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DE2-4666-4107-87AC-E8FCA5EB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A132-FEA4-447A-A01E-02633481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19F-2412-435E-872D-BD8A84B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A998-48ED-4717-8CDD-CE7E7FB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1319-A1C5-46E4-9DF2-C2634761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928-0063-4D68-A137-D28B40D6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0078-2ECF-45DF-9680-82647E6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243-E7B8-4A8C-8212-35EF5C7E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962-660B-4B9E-9B4D-3739D8B7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79D7-6329-49E7-ADE4-1FC2CDD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D5C-C3AC-4E0E-9614-4EF3BA17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62DB-40A0-4C34-AD2C-F9F24B8A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8C31-A2B7-4C89-8538-66502077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D67-D49A-493B-B668-68DF386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3A1-08B2-4E98-8F89-4A87358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588-008F-43C7-9160-C269259D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82A-CC99-4CD5-8DE7-E7FBF460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9E7-CF67-446F-9DF1-322A5BD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16A-9AFC-4122-B142-6B2B325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289-3124-4270-9838-92F717D6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8E2-8F27-4850-9292-E79C318E2A4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4CBB-4E22-4CBB-B775-26D1B267FBF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7.gif"/><Relationship Id="rId15" Type="http://schemas.openxmlformats.org/officeDocument/2006/relationships/image" Target="../media/image17.gif"/><Relationship Id="rId16" Type="http://schemas.openxmlformats.org/officeDocument/2006/relationships/image" Target="../media/image17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7.gif"/><Relationship Id="rId21" Type="http://schemas.openxmlformats.org/officeDocument/2006/relationships/image" Target="../media/image17.gi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ahoma"/>
              </a:rPr>
              <a:t>Teaching Science using the TOC thinking tool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ya Kallir-Meyra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Dr. Rami Kall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ctive Sc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Only logo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20680" y="6247800"/>
            <a:ext cx="46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© All rights reserved to Dr. Rami Kallir Lt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marks on the previous slid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requi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icated equip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st known example for this is Newton who saw the falling apple and phrase the classic physi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 every kid something to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t is impossible to learn how to swim or ride a bicycle without experiencing. Respectively it is impossible to learn science just from reading or watching the teac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ure it can be replicated at 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haring the experience with others, and the need to 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xplain clarify and reinforce the martia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formulas &amp; eq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formulas are not always clear for the teachers, and they are frighten for the studen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In order to teach science   we use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515772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0440" y="1981080"/>
            <a:ext cx="82231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a story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ory can be historical, biblical, mythological, a mystery, or any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ory contains a conflict or continuous events and requires inventive think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ory can be presented using a cloud or a bran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In order to teach science   we use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15772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0440" y="1981080"/>
            <a:ext cx="82231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Practical experiment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xperiments allow kid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ince themsel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marks on the previous slid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eaning of Practical experiments is that the lessons are taking place in a regular class or even outside. Not in a accessoriz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ols are many times dispos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terials are easy to find for the ki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324480" y="2514600"/>
            <a:ext cx="2352960" cy="3971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3810240" cy="2993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Huge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TopType Soncino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soap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TopType Soncino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bub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3295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G_1213" descr=""/>
          <p:cNvPicPr/>
          <p:nvPr/>
        </p:nvPicPr>
        <p:blipFill>
          <a:blip r:embed="rId2"/>
          <a:stretch/>
        </p:blipFill>
        <p:spPr>
          <a:xfrm>
            <a:off x="5867280" y="1352520"/>
            <a:ext cx="3772080" cy="5029200"/>
          </a:xfrm>
          <a:prstGeom prst="rect">
            <a:avLst/>
          </a:prstGeom>
          <a:ln w="76320">
            <a:solidFill>
              <a:srgbClr val="8ab29d"/>
            </a:solidFill>
            <a:miter/>
          </a:ln>
        </p:spPr>
      </p:pic>
      <p:pic>
        <p:nvPicPr>
          <p:cNvPr id="125" name="IMG_1217" descr=""/>
          <p:cNvPicPr/>
          <p:nvPr/>
        </p:nvPicPr>
        <p:blipFill>
          <a:blip r:embed="rId3"/>
          <a:stretch/>
        </p:blipFill>
        <p:spPr>
          <a:xfrm>
            <a:off x="0" y="1346040"/>
            <a:ext cx="3738600" cy="4984920"/>
          </a:xfrm>
          <a:prstGeom prst="rect">
            <a:avLst/>
          </a:prstGeom>
          <a:ln w="76320">
            <a:solidFill>
              <a:srgbClr val="8ab29d"/>
            </a:solidFill>
            <a:miter/>
          </a:ln>
        </p:spPr>
      </p:pic>
      <p:pic>
        <p:nvPicPr>
          <p:cNvPr id="126" name="IMG_1208" descr=""/>
          <p:cNvPicPr/>
          <p:nvPr/>
        </p:nvPicPr>
        <p:blipFill>
          <a:blip r:embed="rId4"/>
          <a:stretch/>
        </p:blipFill>
        <p:spPr>
          <a:xfrm>
            <a:off x="2681280" y="2743200"/>
            <a:ext cx="3871800" cy="5162400"/>
          </a:xfrm>
          <a:prstGeom prst="rect">
            <a:avLst/>
          </a:prstGeom>
          <a:ln w="76320">
            <a:solidFill>
              <a:srgbClr val="8ab29d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0492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l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3371760" cy="4496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971800" y="2590920"/>
            <a:ext cx="3201840" cy="426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Transferring water with siph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788400">
            <a:off x="4800240" y="1523520"/>
            <a:ext cx="3714840" cy="4953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 rot="20908800">
            <a:off x="1219320" y="1752480"/>
            <a:ext cx="3173400" cy="4232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Wave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How do we use scientific thinking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440" y="1447560"/>
            <a:ext cx="8378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Present a phenomen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Explain the phenomen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raising assumption about consequences if we change a parameter in the experi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ssumption is based 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have seen bef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individual knowledge &amp; experi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our own intui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Step 1: Present a phenomen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92360" y="5734080"/>
            <a:ext cx="4537080" cy="1123920"/>
            <a:chOff x="1692360" y="5734080"/>
            <a:chExt cx="4537080" cy="1123920"/>
          </a:xfrm>
        </p:grpSpPr>
        <p:sp>
          <p:nvSpPr>
            <p:cNvPr id="139" name=""/>
            <p:cNvSpPr/>
            <p:nvPr/>
          </p:nvSpPr>
          <p:spPr>
            <a:xfrm>
              <a:off x="1692360" y="5734080"/>
              <a:ext cx="45352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587700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put in a cup together: baking soda, citric acid &amp; wa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438280" y="4292640"/>
            <a:ext cx="2854440" cy="1123920"/>
            <a:chOff x="2438280" y="4292640"/>
            <a:chExt cx="2854440" cy="1123920"/>
          </a:xfrm>
        </p:grpSpPr>
        <p:sp>
          <p:nvSpPr>
            <p:cNvPr id="142" name=""/>
            <p:cNvSpPr/>
            <p:nvPr/>
          </p:nvSpPr>
          <p:spPr>
            <a:xfrm>
              <a:off x="2438280" y="4292640"/>
              <a:ext cx="281952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84360" y="4437000"/>
              <a:ext cx="28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get a lot of bubbles in the cu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38280" y="2743200"/>
            <a:ext cx="2819520" cy="1123920"/>
            <a:chOff x="2438280" y="2743200"/>
            <a:chExt cx="2819520" cy="1123920"/>
          </a:xfrm>
        </p:grpSpPr>
        <p:sp>
          <p:nvSpPr>
            <p:cNvPr id="145" name=""/>
            <p:cNvSpPr/>
            <p:nvPr/>
          </p:nvSpPr>
          <p:spPr>
            <a:xfrm>
              <a:off x="2438280" y="2743200"/>
              <a:ext cx="281952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360" y="2852640"/>
              <a:ext cx="24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ubbles  are coming u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60440" y="1219320"/>
            <a:ext cx="3225960" cy="1123920"/>
            <a:chOff x="2260440" y="1219320"/>
            <a:chExt cx="3225960" cy="1123920"/>
          </a:xfrm>
        </p:grpSpPr>
        <p:sp>
          <p:nvSpPr>
            <p:cNvPr id="148" name=""/>
            <p:cNvSpPr/>
            <p:nvPr/>
          </p:nvSpPr>
          <p:spPr>
            <a:xfrm>
              <a:off x="2286000" y="1219320"/>
              <a:ext cx="315756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0440" y="1371600"/>
              <a:ext cx="322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ubble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e coming out of the cu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8000" y="5805360"/>
            <a:ext cx="126360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429000"/>
            <a:ext cx="144000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230040" y="9487080"/>
            <a:ext cx="714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172200" y="2514600"/>
            <a:ext cx="846000" cy="1562040"/>
            <a:chOff x="6172200" y="2514600"/>
            <a:chExt cx="846000" cy="1562040"/>
          </a:xfrm>
        </p:grpSpPr>
        <p:pic>
          <p:nvPicPr>
            <p:cNvPr id="155" name="" descr="xabubs.gif (6075 bytes)"/>
            <p:cNvPicPr/>
            <p:nvPr/>
          </p:nvPicPr>
          <p:blipFill>
            <a:blip r:embed="rId2"/>
            <a:stretch/>
          </p:blipFill>
          <p:spPr>
            <a:xfrm>
              <a:off x="6477120" y="2666880"/>
              <a:ext cx="41112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xabubs.gif (6075 bytes)"/>
            <p:cNvPicPr/>
            <p:nvPr/>
          </p:nvPicPr>
          <p:blipFill>
            <a:blip r:embed="rId3"/>
            <a:stretch/>
          </p:blipFill>
          <p:spPr>
            <a:xfrm>
              <a:off x="6294600" y="2514600"/>
              <a:ext cx="41112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n_wass05.gif (2179 bytes)"/>
            <p:cNvPicPr/>
            <p:nvPr/>
          </p:nvPicPr>
          <p:blipFill>
            <a:blip r:embed="rId4"/>
            <a:stretch/>
          </p:blipFill>
          <p:spPr>
            <a:xfrm>
              <a:off x="6629400" y="350532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n_wass05.gif (2179 bytes)"/>
            <p:cNvPicPr/>
            <p:nvPr/>
          </p:nvPicPr>
          <p:blipFill>
            <a:blip r:embed="rId5"/>
            <a:stretch/>
          </p:blipFill>
          <p:spPr>
            <a:xfrm>
              <a:off x="6629400" y="304812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n_wass05.gif (2179 bytes)"/>
            <p:cNvPicPr/>
            <p:nvPr/>
          </p:nvPicPr>
          <p:blipFill>
            <a:blip r:embed="rId6"/>
            <a:stretch/>
          </p:blipFill>
          <p:spPr>
            <a:xfrm>
              <a:off x="6172200" y="3276720"/>
              <a:ext cx="38880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886200" y="3962520"/>
            <a:ext cx="0" cy="3045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86200" y="5409720"/>
            <a:ext cx="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2514240"/>
            <a:ext cx="76212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114800"/>
            <a:ext cx="76212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676520" y="3505320"/>
            <a:ext cx="60948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62120" y="990720"/>
            <a:ext cx="846000" cy="1562040"/>
            <a:chOff x="762120" y="990720"/>
            <a:chExt cx="846000" cy="1562040"/>
          </a:xfrm>
        </p:grpSpPr>
        <p:pic>
          <p:nvPicPr>
            <p:cNvPr id="167" name="" descr="xabubs.gif (6075 bytes)"/>
            <p:cNvPicPr/>
            <p:nvPr/>
          </p:nvPicPr>
          <p:blipFill>
            <a:blip r:embed="rId7"/>
            <a:stretch/>
          </p:blipFill>
          <p:spPr>
            <a:xfrm>
              <a:off x="1067040" y="1143000"/>
              <a:ext cx="41112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xabubs.gif (6075 bytes)"/>
            <p:cNvPicPr/>
            <p:nvPr/>
          </p:nvPicPr>
          <p:blipFill>
            <a:blip r:embed="rId8"/>
            <a:stretch/>
          </p:blipFill>
          <p:spPr>
            <a:xfrm>
              <a:off x="884520" y="990720"/>
              <a:ext cx="41112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n_wass05.gif (2179 bytes)"/>
            <p:cNvPicPr/>
            <p:nvPr/>
          </p:nvPicPr>
          <p:blipFill>
            <a:blip r:embed="rId9"/>
            <a:stretch/>
          </p:blipFill>
          <p:spPr>
            <a:xfrm>
              <a:off x="1219320" y="198144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n_wass05.gif (2179 bytes)"/>
            <p:cNvPicPr/>
            <p:nvPr/>
          </p:nvPicPr>
          <p:blipFill>
            <a:blip r:embed="rId10"/>
            <a:stretch/>
          </p:blipFill>
          <p:spPr>
            <a:xfrm>
              <a:off x="1219320" y="152424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n_wass05.gif (2179 bytes)"/>
            <p:cNvPicPr/>
            <p:nvPr/>
          </p:nvPicPr>
          <p:blipFill>
            <a:blip r:embed="rId11"/>
            <a:stretch/>
          </p:blipFill>
          <p:spPr>
            <a:xfrm>
              <a:off x="762120" y="1752840"/>
              <a:ext cx="3888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7467480" y="4724280"/>
            <a:ext cx="846000" cy="1562040"/>
            <a:chOff x="7467480" y="4724280"/>
            <a:chExt cx="846000" cy="1562040"/>
          </a:xfrm>
        </p:grpSpPr>
        <p:pic>
          <p:nvPicPr>
            <p:cNvPr id="173" name="" descr="xabubs.gif (6075 bytes)"/>
            <p:cNvPicPr/>
            <p:nvPr/>
          </p:nvPicPr>
          <p:blipFill>
            <a:blip r:embed="rId12"/>
            <a:stretch/>
          </p:blipFill>
          <p:spPr>
            <a:xfrm>
              <a:off x="7772400" y="4876560"/>
              <a:ext cx="41112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xabubs.gif (6075 bytes)"/>
            <p:cNvPicPr/>
            <p:nvPr/>
          </p:nvPicPr>
          <p:blipFill>
            <a:blip r:embed="rId13"/>
            <a:stretch/>
          </p:blipFill>
          <p:spPr>
            <a:xfrm>
              <a:off x="7589880" y="4724280"/>
              <a:ext cx="41112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n_wass05.gif (2179 bytes)"/>
            <p:cNvPicPr/>
            <p:nvPr/>
          </p:nvPicPr>
          <p:blipFill>
            <a:blip r:embed="rId14"/>
            <a:stretch/>
          </p:blipFill>
          <p:spPr>
            <a:xfrm>
              <a:off x="7924680" y="571500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n_wass05.gif (2179 bytes)"/>
            <p:cNvPicPr/>
            <p:nvPr/>
          </p:nvPicPr>
          <p:blipFill>
            <a:blip r:embed="rId15"/>
            <a:stretch/>
          </p:blipFill>
          <p:spPr>
            <a:xfrm>
              <a:off x="7924680" y="525780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n_wass05.gif (2179 bytes)"/>
            <p:cNvPicPr/>
            <p:nvPr/>
          </p:nvPicPr>
          <p:blipFill>
            <a:blip r:embed="rId16"/>
            <a:stretch/>
          </p:blipFill>
          <p:spPr>
            <a:xfrm>
              <a:off x="7467480" y="5486400"/>
              <a:ext cx="3888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7696080" y="1371600"/>
            <a:ext cx="846000" cy="1562040"/>
            <a:chOff x="7696080" y="1371600"/>
            <a:chExt cx="846000" cy="1562040"/>
          </a:xfrm>
        </p:grpSpPr>
        <p:pic>
          <p:nvPicPr>
            <p:cNvPr id="179" name="" descr="xabubs.gif (6075 bytes)"/>
            <p:cNvPicPr/>
            <p:nvPr/>
          </p:nvPicPr>
          <p:blipFill>
            <a:blip r:embed="rId17"/>
            <a:stretch/>
          </p:blipFill>
          <p:spPr>
            <a:xfrm>
              <a:off x="8001000" y="1523880"/>
              <a:ext cx="411120" cy="12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xabubs.gif (6075 bytes)"/>
            <p:cNvPicPr/>
            <p:nvPr/>
          </p:nvPicPr>
          <p:blipFill>
            <a:blip r:embed="rId18"/>
            <a:stretch/>
          </p:blipFill>
          <p:spPr>
            <a:xfrm>
              <a:off x="7818480" y="1371600"/>
              <a:ext cx="41112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n_wass05.gif (2179 bytes)"/>
            <p:cNvPicPr/>
            <p:nvPr/>
          </p:nvPicPr>
          <p:blipFill>
            <a:blip r:embed="rId19"/>
            <a:stretch/>
          </p:blipFill>
          <p:spPr>
            <a:xfrm>
              <a:off x="8153280" y="236232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n_wass05.gif (2179 bytes)"/>
            <p:cNvPicPr/>
            <p:nvPr/>
          </p:nvPicPr>
          <p:blipFill>
            <a:blip r:embed="rId20"/>
            <a:stretch/>
          </p:blipFill>
          <p:spPr>
            <a:xfrm>
              <a:off x="8153280" y="1905120"/>
              <a:ext cx="388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n_wass05.gif (2179 bytes)"/>
            <p:cNvPicPr/>
            <p:nvPr/>
          </p:nvPicPr>
          <p:blipFill>
            <a:blip r:embed="rId21"/>
            <a:stretch/>
          </p:blipFill>
          <p:spPr>
            <a:xfrm>
              <a:off x="7696080" y="2133720"/>
              <a:ext cx="3888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marks on the previous slid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TOC axiom is that people are basically g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our axiom is that kids love and want to stud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ill quo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r Winston Churchill</a:t>
            </a:r>
            <a:r>
              <a:rPr b="0" lang="he-IL" sz="20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sai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am always ready to learn although I do not always like being taugh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y we look for the ways that kids like to stud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started to develop our programs we understood that behind the scientific experiments must be “reasons”. The scientific phenomenon should be kind of solution for a probl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believed that this way is more challenging encourage creative think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hecked few thinking methods lik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 Thinking H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WARD DE BO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ind Mapping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z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end we decided that the TOC thinking tools match our programs in the best way.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Step 2: explain the phenomen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219320"/>
            <a:ext cx="141624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30040" y="9487080"/>
            <a:ext cx="714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xabubs.gif (6075 bytes)"/>
          <p:cNvPicPr/>
          <p:nvPr/>
        </p:nvPicPr>
        <p:blipFill>
          <a:blip r:embed="rId2"/>
          <a:stretch/>
        </p:blipFill>
        <p:spPr>
          <a:xfrm>
            <a:off x="6477120" y="2666880"/>
            <a:ext cx="411120" cy="1279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xabubs.gif (6075 bytes)"/>
          <p:cNvPicPr/>
          <p:nvPr/>
        </p:nvPicPr>
        <p:blipFill>
          <a:blip r:embed="rId3"/>
          <a:stretch/>
        </p:blipFill>
        <p:spPr>
          <a:xfrm>
            <a:off x="6294600" y="2514600"/>
            <a:ext cx="411120" cy="1401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4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n_wass05.gif (2179 bytes)"/>
          <p:cNvPicPr/>
          <p:nvPr/>
        </p:nvPicPr>
        <p:blipFill>
          <a:blip r:embed="rId4"/>
          <a:stretch/>
        </p:blipFill>
        <p:spPr>
          <a:xfrm>
            <a:off x="6629400" y="3505320"/>
            <a:ext cx="388800" cy="57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n_wass05.gif (2179 bytes)"/>
          <p:cNvPicPr/>
          <p:nvPr/>
        </p:nvPicPr>
        <p:blipFill>
          <a:blip r:embed="rId5"/>
          <a:stretch/>
        </p:blipFill>
        <p:spPr>
          <a:xfrm>
            <a:off x="6629400" y="3048120"/>
            <a:ext cx="388800" cy="571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n_wass05.gif (2179 bytes)"/>
          <p:cNvPicPr/>
          <p:nvPr/>
        </p:nvPicPr>
        <p:blipFill>
          <a:blip r:embed="rId6"/>
          <a:stretch/>
        </p:blipFill>
        <p:spPr>
          <a:xfrm>
            <a:off x="6172200" y="3276720"/>
            <a:ext cx="388800" cy="571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2209680"/>
            <a:ext cx="15098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se bubb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4038480"/>
            <a:ext cx="1600200" cy="15570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y come out of the cu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219320"/>
            <a:ext cx="198108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2209680"/>
            <a:ext cx="2500200" cy="87588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bbles are gas -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4038480"/>
            <a:ext cx="31244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has the tendency to expand in a given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44640" y="5734080"/>
            <a:ext cx="4537080" cy="1123920"/>
            <a:chOff x="1844640" y="5734080"/>
            <a:chExt cx="4537080" cy="1123920"/>
          </a:xfrm>
        </p:grpSpPr>
        <p:sp>
          <p:nvSpPr>
            <p:cNvPr id="199" name=""/>
            <p:cNvSpPr/>
            <p:nvPr/>
          </p:nvSpPr>
          <p:spPr>
            <a:xfrm>
              <a:off x="1844640" y="5734080"/>
              <a:ext cx="45352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44640" y="587700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put in a cup together: baking soda, citric acid &amp; wa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90920" y="4292640"/>
            <a:ext cx="2853720" cy="1123920"/>
            <a:chOff x="2590920" y="4292640"/>
            <a:chExt cx="2853720" cy="1123920"/>
          </a:xfrm>
        </p:grpSpPr>
        <p:sp>
          <p:nvSpPr>
            <p:cNvPr id="202" name=""/>
            <p:cNvSpPr/>
            <p:nvPr/>
          </p:nvSpPr>
          <p:spPr>
            <a:xfrm>
              <a:off x="2590920" y="4292640"/>
              <a:ext cx="281916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36640" y="4437000"/>
              <a:ext cx="280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get a lot of bubbles in the cu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90920" y="2743200"/>
            <a:ext cx="2819160" cy="1123920"/>
            <a:chOff x="2590920" y="2743200"/>
            <a:chExt cx="2819160" cy="1123920"/>
          </a:xfrm>
        </p:grpSpPr>
        <p:sp>
          <p:nvSpPr>
            <p:cNvPr id="205" name=""/>
            <p:cNvSpPr/>
            <p:nvPr/>
          </p:nvSpPr>
          <p:spPr>
            <a:xfrm>
              <a:off x="2590920" y="2743200"/>
              <a:ext cx="281916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52640" y="2852640"/>
              <a:ext cx="24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ubbles  are coming u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413080" y="1219320"/>
            <a:ext cx="3225600" cy="1123920"/>
            <a:chOff x="2413080" y="1219320"/>
            <a:chExt cx="3225600" cy="1123920"/>
          </a:xfrm>
        </p:grpSpPr>
        <p:sp>
          <p:nvSpPr>
            <p:cNvPr id="208" name=""/>
            <p:cNvSpPr/>
            <p:nvPr/>
          </p:nvSpPr>
          <p:spPr>
            <a:xfrm>
              <a:off x="2438280" y="1219320"/>
              <a:ext cx="315720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13080" y="1371600"/>
              <a:ext cx="322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ubble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e coming out of the cu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V="1">
            <a:off x="4038480" y="2437920"/>
            <a:ext cx="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038480" y="3962520"/>
            <a:ext cx="0" cy="3045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38480" y="5409720"/>
            <a:ext cx="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Step 3: changing a parameter</a:t>
            </a: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692360" y="5727600"/>
            <a:ext cx="4537080" cy="1123920"/>
            <a:chOff x="1692360" y="5727600"/>
            <a:chExt cx="4537080" cy="1123920"/>
          </a:xfrm>
        </p:grpSpPr>
        <p:sp>
          <p:nvSpPr>
            <p:cNvPr id="215" name=""/>
            <p:cNvSpPr/>
            <p:nvPr/>
          </p:nvSpPr>
          <p:spPr>
            <a:xfrm>
              <a:off x="1692360" y="5727600"/>
              <a:ext cx="45352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360" y="587052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put in a cup together: baking soda, citric acid &amp; wa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95480" y="3048120"/>
            <a:ext cx="2163600" cy="1123920"/>
            <a:chOff x="2895480" y="3048120"/>
            <a:chExt cx="2163600" cy="1123920"/>
          </a:xfrm>
        </p:grpSpPr>
        <p:sp>
          <p:nvSpPr>
            <p:cNvPr id="218" name=""/>
            <p:cNvSpPr/>
            <p:nvPr/>
          </p:nvSpPr>
          <p:spPr>
            <a:xfrm>
              <a:off x="2895480" y="3048120"/>
              <a:ext cx="20854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29320" y="3241800"/>
              <a:ext cx="212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get a lot of foa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V="1">
            <a:off x="3886200" y="4267080"/>
            <a:ext cx="0" cy="144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934320" y="5734080"/>
            <a:ext cx="1447560" cy="1123920"/>
            <a:chOff x="6934320" y="5734080"/>
            <a:chExt cx="1447560" cy="1123920"/>
          </a:xfrm>
        </p:grpSpPr>
        <p:sp>
          <p:nvSpPr>
            <p:cNvPr id="222" name=""/>
            <p:cNvSpPr/>
            <p:nvPr/>
          </p:nvSpPr>
          <p:spPr>
            <a:xfrm>
              <a:off x="6934320" y="5734080"/>
              <a:ext cx="139500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56280" y="5927760"/>
              <a:ext cx="142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quid soap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400800" y="6095880"/>
            <a:ext cx="304920" cy="381240"/>
          </a:xfrm>
          <a:custGeom>
            <a:avLst/>
            <a:gdLst>
              <a:gd name="textAreaLeft" fmla="*/ 0 w 304920"/>
              <a:gd name="textAreaRight" fmla="*/ 305280 w 304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0" y="0"/>
                </a:lnTo>
                <a:lnTo>
                  <a:pt x="0" y="9844"/>
                </a:lnTo>
                <a:lnTo>
                  <a:pt x="9844" y="9844"/>
                </a:lnTo>
                <a:lnTo>
                  <a:pt x="9844" y="0"/>
                </a:lnTo>
                <a:lnTo>
                  <a:pt x="0" y="0"/>
                </a:lnTo>
                <a:lnTo>
                  <a:pt x="10800" y="0"/>
                </a:lnTo>
                <a:lnTo>
                  <a:pt x="21600" y="0"/>
                </a:lnTo>
                <a:lnTo>
                  <a:pt x="11756" y="0"/>
                </a:lnTo>
                <a:lnTo>
                  <a:pt x="11756" y="9844"/>
                </a:lnTo>
                <a:lnTo>
                  <a:pt x="21600" y="9844"/>
                </a:ln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21600" y="11756"/>
                </a:lnTo>
                <a:lnTo>
                  <a:pt x="11756" y="11756"/>
                </a:lnTo>
                <a:lnTo>
                  <a:pt x="11756" y="21600"/>
                </a:lnTo>
                <a:lnTo>
                  <a:pt x="21600" y="21600"/>
                </a:lnTo>
                <a:lnTo>
                  <a:pt x="10800" y="21600"/>
                </a:lnTo>
                <a:lnTo>
                  <a:pt x="0" y="21600"/>
                </a:lnTo>
                <a:lnTo>
                  <a:pt x="9844" y="21600"/>
                </a:lnTo>
                <a:lnTo>
                  <a:pt x="9844" y="11756"/>
                </a:lnTo>
                <a:lnTo>
                  <a:pt x="0" y="11756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952520" y="4419360"/>
            <a:ext cx="838440" cy="5331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3048120"/>
            <a:ext cx="141624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114800"/>
            <a:ext cx="19814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ap is capturing the g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3886200"/>
            <a:ext cx="2438280" cy="15570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has the tendency to expand in a given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90920" y="4343400"/>
            <a:ext cx="83808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Step 3: changing a parameter</a:t>
            </a: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92360" y="5727600"/>
            <a:ext cx="4537080" cy="1123920"/>
            <a:chOff x="1692360" y="5727600"/>
            <a:chExt cx="4537080" cy="1123920"/>
          </a:xfrm>
        </p:grpSpPr>
        <p:sp>
          <p:nvSpPr>
            <p:cNvPr id="232" name=""/>
            <p:cNvSpPr/>
            <p:nvPr/>
          </p:nvSpPr>
          <p:spPr>
            <a:xfrm>
              <a:off x="1692360" y="5727600"/>
              <a:ext cx="45352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58705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put in a </a:t>
              </a:r>
              <a:r>
                <a:rPr b="1" i="1" lang="en-US" sz="2400" spc="-1" strike="noStrike" u="sng">
                  <a:solidFill>
                    <a:srgbClr val="9900ff"/>
                  </a:solidFill>
                  <a:uFillTx/>
                  <a:latin typeface="Arial"/>
                </a:rPr>
                <a:t>ballo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95480" y="3048120"/>
            <a:ext cx="2163600" cy="1123920"/>
            <a:chOff x="2895480" y="3048120"/>
            <a:chExt cx="2163600" cy="1123920"/>
          </a:xfrm>
        </p:grpSpPr>
        <p:sp>
          <p:nvSpPr>
            <p:cNvPr id="235" name=""/>
            <p:cNvSpPr/>
            <p:nvPr/>
          </p:nvSpPr>
          <p:spPr>
            <a:xfrm>
              <a:off x="2895480" y="3048120"/>
              <a:ext cx="20854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8240" y="3241800"/>
              <a:ext cx="21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alloon will swel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V="1">
            <a:off x="3886200" y="4267080"/>
            <a:ext cx="0" cy="144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114800"/>
            <a:ext cx="19814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loon has elastic structur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4952520" y="4419360"/>
            <a:ext cx="838440" cy="5331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600200"/>
            <a:ext cx="2362320" cy="82548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happ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3048120"/>
            <a:ext cx="141624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3886200"/>
            <a:ext cx="2438280" cy="15570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has the tendency to expand in a given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90920" y="4343400"/>
            <a:ext cx="83808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Step 3: changing a parameter</a:t>
            </a: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692360" y="5727600"/>
            <a:ext cx="4537080" cy="1123920"/>
            <a:chOff x="1692360" y="5727600"/>
            <a:chExt cx="4537080" cy="1123920"/>
          </a:xfrm>
        </p:grpSpPr>
        <p:sp>
          <p:nvSpPr>
            <p:cNvPr id="246" name=""/>
            <p:cNvSpPr/>
            <p:nvPr/>
          </p:nvSpPr>
          <p:spPr>
            <a:xfrm>
              <a:off x="1692360" y="5727600"/>
              <a:ext cx="45352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92360" y="587052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 put it in a </a:t>
              </a:r>
              <a:r>
                <a:rPr b="1" i="1" lang="en-US" sz="2400" spc="-1" strike="noStrike" u="sng">
                  <a:solidFill>
                    <a:srgbClr val="339933"/>
                  </a:solidFill>
                  <a:uFillTx/>
                  <a:latin typeface="Tahoma"/>
                </a:rPr>
                <a:t>tube</a:t>
              </a:r>
              <a:r>
                <a:rPr b="0" lang="en-US" sz="2400" spc="-1" strike="noStrike">
                  <a:solidFill>
                    <a:srgbClr val="ffff66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nd close it with a </a:t>
              </a:r>
              <a:r>
                <a:rPr b="1" i="1" lang="en-US" sz="2400" spc="-1" strike="noStrike" u="sng">
                  <a:solidFill>
                    <a:srgbClr val="339933"/>
                  </a:solidFill>
                  <a:uFillTx/>
                  <a:latin typeface="Tahoma"/>
                </a:rPr>
                <a:t>plu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743200" y="3048120"/>
            <a:ext cx="2514600" cy="1523880"/>
            <a:chOff x="2743200" y="3048120"/>
            <a:chExt cx="2514600" cy="1523880"/>
          </a:xfrm>
        </p:grpSpPr>
        <p:sp>
          <p:nvSpPr>
            <p:cNvPr id="249" name=""/>
            <p:cNvSpPr/>
            <p:nvPr/>
          </p:nvSpPr>
          <p:spPr>
            <a:xfrm>
              <a:off x="2743200" y="3048120"/>
              <a:ext cx="2438280" cy="152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43200" y="312408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he gas creates pressure inside the tu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3886200" y="4724280"/>
            <a:ext cx="0" cy="9907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4299120"/>
            <a:ext cx="19814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ube has a stiff structur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181120" y="4647960"/>
            <a:ext cx="838440" cy="5331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600200"/>
            <a:ext cx="2362320" cy="82548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happ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3048120"/>
            <a:ext cx="141624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886200"/>
            <a:ext cx="2438280" cy="15570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has the tendency to expand in a given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514600" y="4724280"/>
            <a:ext cx="83808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895480" y="1143000"/>
            <a:ext cx="2163600" cy="1123920"/>
            <a:chOff x="2895480" y="1143000"/>
            <a:chExt cx="2163600" cy="1123920"/>
          </a:xfrm>
        </p:grpSpPr>
        <p:sp>
          <p:nvSpPr>
            <p:cNvPr id="259" name=""/>
            <p:cNvSpPr/>
            <p:nvPr/>
          </p:nvSpPr>
          <p:spPr>
            <a:xfrm>
              <a:off x="2895480" y="1143000"/>
              <a:ext cx="20854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28240" y="1336680"/>
              <a:ext cx="21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he plug will jump ou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3886200" y="243828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The 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raoh gave the command to kill all male babies born to the Israelites by throwing them into the Nile r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heved could not bear to obey the comma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 chose to hide her baby at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3 months, he became too hard to h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amily was in dan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Yoheved’s conflict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93040" y="1089000"/>
            <a:ext cx="2226960" cy="4184640"/>
            <a:chOff x="6593040" y="1089000"/>
            <a:chExt cx="2226960" cy="4184640"/>
          </a:xfrm>
        </p:grpSpPr>
        <p:sp>
          <p:nvSpPr>
            <p:cNvPr id="266" name=""/>
            <p:cNvSpPr/>
            <p:nvPr/>
          </p:nvSpPr>
          <p:spPr>
            <a:xfrm>
              <a:off x="6593040" y="3936960"/>
              <a:ext cx="2181240" cy="13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540560" y="2400120"/>
              <a:ext cx="339480" cy="1494720"/>
              <a:chOff x="7540560" y="2400120"/>
              <a:chExt cx="339480" cy="1494720"/>
            </a:xfrm>
          </p:grpSpPr>
          <p:sp>
            <p:nvSpPr>
              <p:cNvPr id="268" name=""/>
              <p:cNvSpPr/>
              <p:nvPr/>
            </p:nvSpPr>
            <p:spPr>
              <a:xfrm>
                <a:off x="7540560" y="2997000"/>
                <a:ext cx="0" cy="89784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876800" y="2400120"/>
                <a:ext cx="0" cy="89784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40560" y="2997000"/>
                <a:ext cx="339480" cy="30060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638760" y="1089000"/>
              <a:ext cx="2181240" cy="13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48360" y="4040280"/>
              <a:ext cx="160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row the baby  to the Ni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93080" y="1160280"/>
              <a:ext cx="143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ide the baby  at hom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052800" y="1089000"/>
            <a:ext cx="3607920" cy="4211640"/>
            <a:chOff x="3052800" y="1089000"/>
            <a:chExt cx="3607920" cy="4211640"/>
          </a:xfrm>
        </p:grpSpPr>
        <p:sp>
          <p:nvSpPr>
            <p:cNvPr id="275" name=""/>
            <p:cNvSpPr/>
            <p:nvPr/>
          </p:nvSpPr>
          <p:spPr>
            <a:xfrm>
              <a:off x="3052800" y="3897360"/>
              <a:ext cx="2382840" cy="14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dbaf00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52800" y="1089000"/>
              <a:ext cx="2382840" cy="14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dbaf00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470200" y="1836720"/>
              <a:ext cx="1190520" cy="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22520" y="1417680"/>
              <a:ext cx="165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tect the bab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03640" y="4040280"/>
              <a:ext cx="19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tect the family member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435280" y="4616280"/>
              <a:ext cx="1190520" cy="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50920" y="2239920"/>
            <a:ext cx="2808360" cy="2170080"/>
            <a:chOff x="250920" y="2239920"/>
            <a:chExt cx="2808360" cy="2170080"/>
          </a:xfrm>
        </p:grpSpPr>
        <p:sp>
          <p:nvSpPr>
            <p:cNvPr id="282" name=""/>
            <p:cNvSpPr/>
            <p:nvPr/>
          </p:nvSpPr>
          <p:spPr>
            <a:xfrm>
              <a:off x="250920" y="2789280"/>
              <a:ext cx="2017440" cy="1251000"/>
            </a:xfrm>
            <a:prstGeom prst="flowChartAlternateProcess">
              <a:avLst/>
            </a:prstGeom>
            <a:gradFill rotWithShape="0">
              <a:gsLst>
                <a:gs pos="0">
                  <a:srgbClr val="bd5dfe"/>
                </a:gs>
                <a:gs pos="50000">
                  <a:srgbClr val="9900ff"/>
                </a:gs>
                <a:gs pos="100000">
                  <a:srgbClr val="bd5dfe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2300400" y="3752640"/>
              <a:ext cx="758880" cy="65736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4000" y="2781360"/>
              <a:ext cx="180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tect the  whole family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300400" y="2239920"/>
              <a:ext cx="758880" cy="79200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-1440" y="5746680"/>
            <a:ext cx="8890200" cy="1068840"/>
          </a:xfrm>
          <a:prstGeom prst="rect">
            <a:avLst/>
          </a:prstGeom>
          <a:gradFill rotWithShape="0">
            <a:gsLst>
              <a:gs pos="0">
                <a:srgbClr val="f4eac2"/>
              </a:gs>
              <a:gs pos="100000">
                <a:srgbClr val="d1c9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Arial"/>
              </a:rPr>
              <a:t>Assumptions: the baby cannot sw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4e4e74"/>
                </a:solidFill>
                <a:latin typeface="Arial"/>
              </a:rPr>
              <a:t>the baby cannot float o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The Injection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676520"/>
            <a:ext cx="4824360" cy="1068840"/>
          </a:xfrm>
          <a:prstGeom prst="rect">
            <a:avLst/>
          </a:prstGeom>
          <a:gradFill rotWithShape="0">
            <a:gsLst>
              <a:gs pos="0">
                <a:srgbClr val="f4eac2"/>
              </a:gs>
              <a:gs pos="100000">
                <a:srgbClr val="d1c9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baby in a box that can float o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012000" y="1125360"/>
            <a:ext cx="2228760" cy="2162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57120" y="4923000"/>
            <a:ext cx="4824360" cy="1556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57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build the box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erials can float on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4267080"/>
            <a:ext cx="141624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Step 1: Present a phenomen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loat or sink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different objects and assume which will float and which will si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example, we have here:                                    candle, oil, paper, skewer,          Styrofoa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l, Plasticine,                                   plastic pi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3733920"/>
            <a:ext cx="2819520" cy="211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Step 1: Present a phenomen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the assumptions by experi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ndle, skewer &amp; Styrofoa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l are flo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lasticine &amp; plastic pipe are sin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per floats, and then sin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5075280"/>
            <a:ext cx="2376360" cy="178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67640" y="5075280"/>
            <a:ext cx="2376360" cy="178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75280"/>
            <a:ext cx="2376360" cy="17827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075280"/>
            <a:ext cx="2376360" cy="17827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Step 2: explain the phenomen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743200" y="5727600"/>
            <a:ext cx="2362320" cy="1123920"/>
            <a:chOff x="2743200" y="5727600"/>
            <a:chExt cx="2362320" cy="1123920"/>
          </a:xfrm>
        </p:grpSpPr>
        <p:sp>
          <p:nvSpPr>
            <p:cNvPr id="303" name=""/>
            <p:cNvSpPr/>
            <p:nvPr/>
          </p:nvSpPr>
          <p:spPr>
            <a:xfrm>
              <a:off x="2743200" y="5727600"/>
              <a:ext cx="236124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43200" y="587052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object is full with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743200" y="3505320"/>
            <a:ext cx="2514600" cy="1295280"/>
            <a:chOff x="2743200" y="3505320"/>
            <a:chExt cx="2514600" cy="1295280"/>
          </a:xfrm>
        </p:grpSpPr>
        <p:sp>
          <p:nvSpPr>
            <p:cNvPr id="306" name=""/>
            <p:cNvSpPr/>
            <p:nvPr/>
          </p:nvSpPr>
          <p:spPr>
            <a:xfrm>
              <a:off x="2743200" y="3505320"/>
              <a:ext cx="2438280" cy="12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3200" y="356976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object is floating on the wa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V="1">
            <a:off x="3886200" y="4952520"/>
            <a:ext cx="0" cy="7621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4800600" y="5029200"/>
            <a:ext cx="83808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600200"/>
            <a:ext cx="5867280" cy="138168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: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between weight and volume The density of water is 1 g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4114800"/>
            <a:ext cx="1416240" cy="459720"/>
          </a:xfrm>
          <a:prstGeom prst="rect">
            <a:avLst/>
          </a:prstGeom>
          <a:solidFill>
            <a:srgbClr val="00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105520"/>
            <a:ext cx="243828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’s density is less the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ONE   PICTURE   EQUALS            A THOUSAND   WORDS</a:t>
            </a: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Only logo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388620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 “</a:t>
            </a: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ONE   EXPERIENCE   IS   WORTH   A THOUSAND   PICTURES</a:t>
            </a: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Step 3: changing a parame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we make a sinking object flo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we make a floating object sin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Step 3: changing a parame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2286000"/>
            <a:ext cx="2376360" cy="178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43200" y="5727600"/>
            <a:ext cx="2666880" cy="1334160"/>
            <a:chOff x="2743200" y="5727600"/>
            <a:chExt cx="2666880" cy="1334160"/>
          </a:xfrm>
        </p:grpSpPr>
        <p:sp>
          <p:nvSpPr>
            <p:cNvPr id="318" name=""/>
            <p:cNvSpPr/>
            <p:nvPr/>
          </p:nvSpPr>
          <p:spPr>
            <a:xfrm>
              <a:off x="2743200" y="5727600"/>
              <a:ext cx="266580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200" y="587052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 add weight to the Styrofoam bal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200400" y="3809880"/>
            <a:ext cx="1676520" cy="990720"/>
            <a:chOff x="3200400" y="3809880"/>
            <a:chExt cx="1676520" cy="990720"/>
          </a:xfrm>
        </p:grpSpPr>
        <p:sp>
          <p:nvSpPr>
            <p:cNvPr id="321" name=""/>
            <p:cNvSpPr/>
            <p:nvPr/>
          </p:nvSpPr>
          <p:spPr>
            <a:xfrm>
              <a:off x="3200400" y="3809880"/>
              <a:ext cx="162540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00400" y="385920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all          will sin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V="1">
            <a:off x="4038480" y="4952520"/>
            <a:ext cx="0" cy="7621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4952520" y="5029200"/>
            <a:ext cx="83844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5105520"/>
            <a:ext cx="24386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’s density is more the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Step 3: changing a parame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743200" y="5727600"/>
            <a:ext cx="2666880" cy="1334160"/>
            <a:chOff x="2743200" y="5727600"/>
            <a:chExt cx="2666880" cy="1334160"/>
          </a:xfrm>
        </p:grpSpPr>
        <p:sp>
          <p:nvSpPr>
            <p:cNvPr id="328" name=""/>
            <p:cNvSpPr/>
            <p:nvPr/>
          </p:nvSpPr>
          <p:spPr>
            <a:xfrm>
              <a:off x="2743200" y="5727600"/>
              <a:ext cx="266580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587052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 block the pipe with plasticin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200400" y="3809880"/>
            <a:ext cx="1676520" cy="1240560"/>
            <a:chOff x="3200400" y="3809880"/>
            <a:chExt cx="1676520" cy="1240560"/>
          </a:xfrm>
        </p:grpSpPr>
        <p:sp>
          <p:nvSpPr>
            <p:cNvPr id="331" name=""/>
            <p:cNvSpPr/>
            <p:nvPr/>
          </p:nvSpPr>
          <p:spPr>
            <a:xfrm>
              <a:off x="3200400" y="3809880"/>
              <a:ext cx="162540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0400" y="38592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pipe          will floa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4038480" y="4952520"/>
            <a:ext cx="0" cy="7621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952520" y="5029200"/>
            <a:ext cx="83844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5880" y="5105520"/>
            <a:ext cx="24386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’s density is less the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2362320"/>
            <a:ext cx="2376360" cy="178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Step 3: changing a parame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895480" y="5727600"/>
            <a:ext cx="2057400" cy="1123920"/>
            <a:chOff x="2895480" y="5727600"/>
            <a:chExt cx="2057400" cy="1123920"/>
          </a:xfrm>
        </p:grpSpPr>
        <p:sp>
          <p:nvSpPr>
            <p:cNvPr id="339" name=""/>
            <p:cNvSpPr/>
            <p:nvPr/>
          </p:nvSpPr>
          <p:spPr>
            <a:xfrm>
              <a:off x="2895480" y="5727600"/>
              <a:ext cx="20566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95480" y="58705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 put oil on the paper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flipV="1">
            <a:off x="4038480" y="4952520"/>
            <a:ext cx="0" cy="7621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952520" y="5029200"/>
            <a:ext cx="83844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5105520"/>
            <a:ext cx="243864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’s density is less the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200400" y="3809880"/>
            <a:ext cx="1676520" cy="1240560"/>
            <a:chOff x="3200400" y="3809880"/>
            <a:chExt cx="1676520" cy="1240560"/>
          </a:xfrm>
        </p:grpSpPr>
        <p:sp>
          <p:nvSpPr>
            <p:cNvPr id="345" name=""/>
            <p:cNvSpPr/>
            <p:nvPr/>
          </p:nvSpPr>
          <p:spPr>
            <a:xfrm>
              <a:off x="3200400" y="3809880"/>
              <a:ext cx="1625400" cy="9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0400" y="38592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paper          will floa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0" y="4191120"/>
            <a:ext cx="2590920" cy="192276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il is blocking the strings and prevents the exit of the 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2332080"/>
            <a:ext cx="2376360" cy="178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743200" y="5029200"/>
            <a:ext cx="83808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Back to the Injection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2228760" cy="216216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1996920" y="5657760"/>
            <a:ext cx="4537080" cy="1123920"/>
            <a:chOff x="1996920" y="5657760"/>
            <a:chExt cx="4537080" cy="1123920"/>
          </a:xfrm>
        </p:grpSpPr>
        <p:sp>
          <p:nvSpPr>
            <p:cNvPr id="353" name=""/>
            <p:cNvSpPr/>
            <p:nvPr/>
          </p:nvSpPr>
          <p:spPr>
            <a:xfrm>
              <a:off x="1996920" y="5657760"/>
              <a:ext cx="453528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6920" y="580068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ke the baby and put it in a box made of papyr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743200" y="4216320"/>
            <a:ext cx="2854440" cy="1123920"/>
            <a:chOff x="2743200" y="4216320"/>
            <a:chExt cx="2854440" cy="1123920"/>
          </a:xfrm>
        </p:grpSpPr>
        <p:sp>
          <p:nvSpPr>
            <p:cNvPr id="356" name=""/>
            <p:cNvSpPr/>
            <p:nvPr/>
          </p:nvSpPr>
          <p:spPr>
            <a:xfrm>
              <a:off x="2743200" y="4216320"/>
              <a:ext cx="281952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89280" y="4360680"/>
              <a:ext cx="28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aby will float on the wat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743200" y="2666880"/>
            <a:ext cx="2819520" cy="1123920"/>
            <a:chOff x="2743200" y="2666880"/>
            <a:chExt cx="2819520" cy="1123920"/>
          </a:xfrm>
        </p:grpSpPr>
        <p:sp>
          <p:nvSpPr>
            <p:cNvPr id="359" name=""/>
            <p:cNvSpPr/>
            <p:nvPr/>
          </p:nvSpPr>
          <p:spPr>
            <a:xfrm>
              <a:off x="2743200" y="2666880"/>
              <a:ext cx="281952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5280" y="2776320"/>
              <a:ext cx="24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at the box with t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565360" y="1143000"/>
            <a:ext cx="3225960" cy="1123920"/>
            <a:chOff x="2565360" y="1143000"/>
            <a:chExt cx="3225960" cy="1123920"/>
          </a:xfrm>
        </p:grpSpPr>
        <p:sp>
          <p:nvSpPr>
            <p:cNvPr id="362" name=""/>
            <p:cNvSpPr/>
            <p:nvPr/>
          </p:nvSpPr>
          <p:spPr>
            <a:xfrm>
              <a:off x="2590920" y="1143000"/>
              <a:ext cx="3157560" cy="11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65360" y="1295280"/>
              <a:ext cx="322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baby will safely float for long ti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V="1">
            <a:off x="4191120" y="2285640"/>
            <a:ext cx="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191120" y="5334120"/>
            <a:ext cx="0" cy="3045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4343400"/>
            <a:ext cx="2438280" cy="119124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’s density is less the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1905120"/>
            <a:ext cx="2286000" cy="1557000"/>
          </a:xfrm>
          <a:prstGeom prst="rect">
            <a:avLst/>
          </a:prstGeom>
          <a:gradFill rotWithShape="0">
            <a:gsLst>
              <a:gs pos="0">
                <a:srgbClr val="af83db"/>
              </a:gs>
              <a:gs pos="100000">
                <a:srgbClr val="cc99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r prevents absorption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ahoma"/>
              </a:rPr>
              <a:t>The 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ll Eulenspiegel is a fol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.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story he walks on a tightrope over the lake and amuses the aud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cal kids shake the rope and he falls into the lak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can he do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The story as a branch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124000" y="4797360"/>
            <a:ext cx="2735280" cy="1657440"/>
            <a:chOff x="2124000" y="4797360"/>
            <a:chExt cx="2735280" cy="1657440"/>
          </a:xfrm>
        </p:grpSpPr>
        <p:sp>
          <p:nvSpPr>
            <p:cNvPr id="372" name=""/>
            <p:cNvSpPr/>
            <p:nvPr/>
          </p:nvSpPr>
          <p:spPr>
            <a:xfrm>
              <a:off x="2224080" y="4797360"/>
              <a:ext cx="2486160" cy="165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24000" y="4890600"/>
              <a:ext cx="2735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ll Eulenspiegel walks on the tightrope in balanc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V="1">
            <a:off x="3564000" y="3428640"/>
            <a:ext cx="503280" cy="115092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076720" y="4797360"/>
            <a:ext cx="2808360" cy="1726920"/>
            <a:chOff x="5076720" y="4797360"/>
            <a:chExt cx="2808360" cy="1726920"/>
          </a:xfrm>
        </p:grpSpPr>
        <p:sp>
          <p:nvSpPr>
            <p:cNvPr id="376" name=""/>
            <p:cNvSpPr/>
            <p:nvPr/>
          </p:nvSpPr>
          <p:spPr>
            <a:xfrm>
              <a:off x="5178960" y="4797360"/>
              <a:ext cx="2553120" cy="17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76720" y="5102640"/>
              <a:ext cx="28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kids shake   the rope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203640" y="1916280"/>
            <a:ext cx="3097080" cy="1427760"/>
            <a:chOff x="3203640" y="1916280"/>
            <a:chExt cx="3097080" cy="1427760"/>
          </a:xfrm>
        </p:grpSpPr>
        <p:sp>
          <p:nvSpPr>
            <p:cNvPr id="379" name=""/>
            <p:cNvSpPr/>
            <p:nvPr/>
          </p:nvSpPr>
          <p:spPr>
            <a:xfrm>
              <a:off x="3316320" y="1916280"/>
              <a:ext cx="2815560" cy="13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3640" y="2152800"/>
              <a:ext cx="309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ll Eulenspiegel                             falls into the lak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5580000" y="3499920"/>
            <a:ext cx="504720" cy="107964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027920" y="3284640"/>
            <a:ext cx="2116080" cy="26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The story as a branch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124000" y="4797360"/>
            <a:ext cx="2735280" cy="1657440"/>
            <a:chOff x="2124000" y="4797360"/>
            <a:chExt cx="2735280" cy="1657440"/>
          </a:xfrm>
        </p:grpSpPr>
        <p:sp>
          <p:nvSpPr>
            <p:cNvPr id="385" name=""/>
            <p:cNvSpPr/>
            <p:nvPr/>
          </p:nvSpPr>
          <p:spPr>
            <a:xfrm>
              <a:off x="2224080" y="4797360"/>
              <a:ext cx="2486160" cy="165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24000" y="4890600"/>
              <a:ext cx="2735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ll Eulenspiegel walks on the tightrope in balanc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 flipV="1">
            <a:off x="3564000" y="3428640"/>
            <a:ext cx="503280" cy="115092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076720" y="4797360"/>
            <a:ext cx="2808360" cy="1726920"/>
            <a:chOff x="5076720" y="4797360"/>
            <a:chExt cx="2808360" cy="1726920"/>
          </a:xfrm>
        </p:grpSpPr>
        <p:sp>
          <p:nvSpPr>
            <p:cNvPr id="389" name=""/>
            <p:cNvSpPr/>
            <p:nvPr/>
          </p:nvSpPr>
          <p:spPr>
            <a:xfrm>
              <a:off x="5178960" y="4797360"/>
              <a:ext cx="2553120" cy="17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76720" y="5102640"/>
              <a:ext cx="28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kids shake   the rope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203640" y="1916280"/>
            <a:ext cx="3097080" cy="1427760"/>
            <a:chOff x="3203640" y="1916280"/>
            <a:chExt cx="3097080" cy="1427760"/>
          </a:xfrm>
        </p:grpSpPr>
        <p:sp>
          <p:nvSpPr>
            <p:cNvPr id="392" name=""/>
            <p:cNvSpPr/>
            <p:nvPr/>
          </p:nvSpPr>
          <p:spPr>
            <a:xfrm>
              <a:off x="3316320" y="1916280"/>
              <a:ext cx="2815560" cy="13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feac"/>
                </a:gs>
                <a:gs pos="100000">
                  <a:srgbClr val="66ff33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3640" y="2152800"/>
              <a:ext cx="309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ll Eulenspiegel                             falls into the lak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 flipH="1" flipV="1">
            <a:off x="5580000" y="3499920"/>
            <a:ext cx="504720" cy="107964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08000" y="1484280"/>
            <a:ext cx="1187280" cy="792360"/>
            <a:chOff x="108000" y="1484280"/>
            <a:chExt cx="1187280" cy="792360"/>
          </a:xfrm>
        </p:grpSpPr>
        <p:sp>
          <p:nvSpPr>
            <p:cNvPr id="396" name=""/>
            <p:cNvSpPr/>
            <p:nvPr/>
          </p:nvSpPr>
          <p:spPr>
            <a:xfrm>
              <a:off x="151200" y="1484280"/>
              <a:ext cx="1079280" cy="7923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8000" y="1623600"/>
              <a:ext cx="11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0" y="4797360"/>
            <a:ext cx="4716000" cy="1336680"/>
            <a:chOff x="0" y="4797360"/>
            <a:chExt cx="4716000" cy="1336680"/>
          </a:xfrm>
        </p:grpSpPr>
        <p:sp>
          <p:nvSpPr>
            <p:cNvPr id="399" name=""/>
            <p:cNvSpPr/>
            <p:nvPr/>
          </p:nvSpPr>
          <p:spPr>
            <a:xfrm>
              <a:off x="171720" y="4797360"/>
              <a:ext cx="4287600" cy="13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efe1fe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5033880"/>
              <a:ext cx="471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use his center of gravity was above the rop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7027920" y="3284640"/>
            <a:ext cx="2116080" cy="260352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0" y="2421000"/>
            <a:ext cx="4716000" cy="1336680"/>
            <a:chOff x="0" y="2421000"/>
            <a:chExt cx="4716000" cy="1336680"/>
          </a:xfrm>
        </p:grpSpPr>
        <p:sp>
          <p:nvSpPr>
            <p:cNvPr id="403" name=""/>
            <p:cNvSpPr/>
            <p:nvPr/>
          </p:nvSpPr>
          <p:spPr>
            <a:xfrm>
              <a:off x="171720" y="2421000"/>
              <a:ext cx="4287600" cy="13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efe1fe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2657520"/>
              <a:ext cx="47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ause he lost his bala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0920" y="3933720"/>
            <a:ext cx="1187280" cy="792360"/>
            <a:chOff x="250920" y="3933720"/>
            <a:chExt cx="1187280" cy="792360"/>
          </a:xfrm>
        </p:grpSpPr>
        <p:sp>
          <p:nvSpPr>
            <p:cNvPr id="406" name=""/>
            <p:cNvSpPr/>
            <p:nvPr/>
          </p:nvSpPr>
          <p:spPr>
            <a:xfrm>
              <a:off x="294120" y="3933720"/>
              <a:ext cx="1079280" cy="79236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4073040"/>
              <a:ext cx="11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What is this “center of gravity” ?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us make an experiment to demonstra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al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Styrofoa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g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wood ske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b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ulating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ration obj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2590920"/>
            <a:ext cx="457200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Follow the instructions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one wood skewer through                           the Styrofo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g from up to                                   down, as shown in the pic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two wood skewers into                                  the sides of the Styrofo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g,                       as shown in the pic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6705720" y="1600200"/>
            <a:ext cx="1909800" cy="1432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05720" y="3962520"/>
            <a:ext cx="1909800" cy="143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5257800"/>
            <a:ext cx="1906560" cy="143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81080"/>
            <a:ext cx="8305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picture equals a thousand 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experience is worth a thousand picture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erience is engrave in memory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marks on the previous slid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the beads on the side skew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Insulating tape to set                                               the beads on the end of the ske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05720" y="457200"/>
            <a:ext cx="1908000" cy="1432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2971800"/>
            <a:ext cx="1906560" cy="143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3657600"/>
            <a:ext cx="3809880" cy="28576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880" y="2286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he position of the central skewer to change the balance of the “acrobat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best                                                            balanced point                                                       and let it st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1295280"/>
            <a:ext cx="243828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1295280"/>
            <a:ext cx="243828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429000"/>
            <a:ext cx="4572000" cy="3429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285640" y="1295280"/>
            <a:ext cx="11430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19720" y="1447920"/>
            <a:ext cx="45720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Back to the Injection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819520" y="4419720"/>
            <a:ext cx="3352680" cy="1752120"/>
            <a:chOff x="2819520" y="4419720"/>
            <a:chExt cx="3352680" cy="1752120"/>
          </a:xfrm>
        </p:grpSpPr>
        <p:sp>
          <p:nvSpPr>
            <p:cNvPr id="428" name=""/>
            <p:cNvSpPr/>
            <p:nvPr/>
          </p:nvSpPr>
          <p:spPr>
            <a:xfrm>
              <a:off x="2819520" y="4419720"/>
              <a:ext cx="3351240" cy="175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46422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kes shoes from the kids and hold them below the rope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1600200"/>
            <a:ext cx="2819520" cy="1320480"/>
            <a:chOff x="2895480" y="1600200"/>
            <a:chExt cx="2819520" cy="1320480"/>
          </a:xfrm>
        </p:grpSpPr>
        <p:sp>
          <p:nvSpPr>
            <p:cNvPr id="431" name=""/>
            <p:cNvSpPr/>
            <p:nvPr/>
          </p:nvSpPr>
          <p:spPr>
            <a:xfrm>
              <a:off x="2895480" y="1600200"/>
              <a:ext cx="281952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ecd6"/>
                </a:gs>
                <a:gs pos="100000">
                  <a:srgbClr val="c8ab42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57560" y="1728720"/>
              <a:ext cx="244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 walks on the rope without falling dow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116080" cy="260352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6400800" y="3505320"/>
            <a:ext cx="2438280" cy="1501200"/>
            <a:chOff x="6400800" y="3505320"/>
            <a:chExt cx="2438280" cy="1501200"/>
          </a:xfrm>
        </p:grpSpPr>
        <p:sp>
          <p:nvSpPr>
            <p:cNvPr id="435" name=""/>
            <p:cNvSpPr/>
            <p:nvPr/>
          </p:nvSpPr>
          <p:spPr>
            <a:xfrm>
              <a:off x="6489360" y="3505320"/>
              <a:ext cx="2216520" cy="1501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efe1fe"/>
                </a:gs>
              </a:gsLst>
              <a:lin ang="5400000"/>
            </a:gradFill>
            <a:ln w="763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00800" y="377100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center of gravity is below the rop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>
            <a:off x="4267080" y="3276360"/>
            <a:ext cx="0" cy="114300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952520" y="3276720"/>
            <a:ext cx="1295640" cy="76176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2133720" y="3809880"/>
            <a:ext cx="761760" cy="711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457200" y="2498760"/>
            <a:ext cx="190440" cy="1996920"/>
          </a:xfrm>
          <a:custGeom>
            <a:avLst/>
            <a:gdLst/>
            <a:ahLst/>
            <a:rect l="l" t="t" r="r" b="b"/>
            <a:pathLst>
              <a:path w="196" h="704">
                <a:moveTo>
                  <a:pt x="105" y="0"/>
                </a:moveTo>
                <a:cubicBezTo>
                  <a:pt x="157" y="166"/>
                  <a:pt x="196" y="373"/>
                  <a:pt x="47" y="471"/>
                </a:cubicBezTo>
                <a:cubicBezTo>
                  <a:pt x="34" y="490"/>
                  <a:pt x="22" y="509"/>
                  <a:pt x="9" y="528"/>
                </a:cubicBezTo>
                <a:cubicBezTo>
                  <a:pt x="0" y="542"/>
                  <a:pt x="14" y="496"/>
                  <a:pt x="18" y="480"/>
                </a:cubicBezTo>
                <a:cubicBezTo>
                  <a:pt x="20" y="470"/>
                  <a:pt x="25" y="461"/>
                  <a:pt x="28" y="452"/>
                </a:cubicBezTo>
                <a:cubicBezTo>
                  <a:pt x="46" y="390"/>
                  <a:pt x="58" y="354"/>
                  <a:pt x="95" y="298"/>
                </a:cubicBezTo>
                <a:cubicBezTo>
                  <a:pt x="108" y="279"/>
                  <a:pt x="153" y="260"/>
                  <a:pt x="153" y="260"/>
                </a:cubicBezTo>
                <a:cubicBezTo>
                  <a:pt x="167" y="215"/>
                  <a:pt x="174" y="206"/>
                  <a:pt x="153" y="144"/>
                </a:cubicBezTo>
                <a:cubicBezTo>
                  <a:pt x="146" y="122"/>
                  <a:pt x="127" y="106"/>
                  <a:pt x="114" y="87"/>
                </a:cubicBezTo>
                <a:cubicBezTo>
                  <a:pt x="108" y="77"/>
                  <a:pt x="95" y="58"/>
                  <a:pt x="95" y="58"/>
                </a:cubicBezTo>
                <a:cubicBezTo>
                  <a:pt x="59" y="208"/>
                  <a:pt x="116" y="374"/>
                  <a:pt x="28" y="509"/>
                </a:cubicBezTo>
                <a:cubicBezTo>
                  <a:pt x="22" y="531"/>
                  <a:pt x="9" y="553"/>
                  <a:pt x="9" y="576"/>
                </a:cubicBezTo>
                <a:cubicBezTo>
                  <a:pt x="9" y="704"/>
                  <a:pt x="60" y="701"/>
                  <a:pt x="9" y="701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rot="20594400">
            <a:off x="2306160" y="2085480"/>
            <a:ext cx="74520" cy="1690560"/>
          </a:xfrm>
          <a:custGeom>
            <a:avLst/>
            <a:gdLst/>
            <a:ahLst/>
            <a:rect l="l" t="t" r="r" b="b"/>
            <a:pathLst>
              <a:path w="196" h="704">
                <a:moveTo>
                  <a:pt x="105" y="0"/>
                </a:moveTo>
                <a:cubicBezTo>
                  <a:pt x="157" y="166"/>
                  <a:pt x="196" y="373"/>
                  <a:pt x="47" y="471"/>
                </a:cubicBezTo>
                <a:cubicBezTo>
                  <a:pt x="34" y="490"/>
                  <a:pt x="22" y="509"/>
                  <a:pt x="9" y="528"/>
                </a:cubicBezTo>
                <a:cubicBezTo>
                  <a:pt x="0" y="542"/>
                  <a:pt x="14" y="496"/>
                  <a:pt x="18" y="480"/>
                </a:cubicBezTo>
                <a:cubicBezTo>
                  <a:pt x="20" y="470"/>
                  <a:pt x="25" y="461"/>
                  <a:pt x="28" y="452"/>
                </a:cubicBezTo>
                <a:cubicBezTo>
                  <a:pt x="46" y="390"/>
                  <a:pt x="58" y="354"/>
                  <a:pt x="95" y="298"/>
                </a:cubicBezTo>
                <a:cubicBezTo>
                  <a:pt x="108" y="279"/>
                  <a:pt x="153" y="260"/>
                  <a:pt x="153" y="260"/>
                </a:cubicBezTo>
                <a:cubicBezTo>
                  <a:pt x="167" y="215"/>
                  <a:pt x="174" y="206"/>
                  <a:pt x="153" y="144"/>
                </a:cubicBezTo>
                <a:cubicBezTo>
                  <a:pt x="146" y="122"/>
                  <a:pt x="127" y="106"/>
                  <a:pt x="114" y="87"/>
                </a:cubicBezTo>
                <a:cubicBezTo>
                  <a:pt x="108" y="77"/>
                  <a:pt x="95" y="58"/>
                  <a:pt x="95" y="58"/>
                </a:cubicBezTo>
                <a:cubicBezTo>
                  <a:pt x="59" y="208"/>
                  <a:pt x="116" y="374"/>
                  <a:pt x="28" y="509"/>
                </a:cubicBezTo>
                <a:cubicBezTo>
                  <a:pt x="22" y="531"/>
                  <a:pt x="9" y="553"/>
                  <a:pt x="9" y="576"/>
                </a:cubicBezTo>
                <a:cubicBezTo>
                  <a:pt x="9" y="704"/>
                  <a:pt x="60" y="701"/>
                  <a:pt x="9" y="701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82548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How</a:t>
            </a:r>
            <a:r>
              <a:rPr b="0" lang="en-US" sz="40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do</a:t>
            </a:r>
            <a:r>
              <a:rPr b="0" lang="en-US" sz="40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we</a:t>
            </a:r>
            <a:r>
              <a:rPr b="0" lang="en-US" sz="40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operate</a:t>
            </a:r>
            <a:r>
              <a:rPr b="0" lang="en-US" sz="4000" spc="-1" strike="noStrike">
                <a:solidFill>
                  <a:srgbClr val="3399ff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elf-operate Science kits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velop kits that are “Ready-Made-Meals” for teachers to use, with little or no prepa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kit contains all the required background notes and materials to perform the experim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sson plan is using the TOC thinking too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3562200"/>
            <a:ext cx="4495680" cy="337212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4648320" y="3562200"/>
            <a:ext cx="4495680" cy="337212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648320" y="76320"/>
            <a:ext cx="4495680" cy="33717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0" y="76320"/>
            <a:ext cx="4495680" cy="33717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Our future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we joined to Orda (Creative group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 known and highly reputable name in the educational games field in Israel and worldw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a will produce and market the Active Science kits all over the world,                starting this year in Korea.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3594240" cy="2446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3978000" cy="24843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5257800" y="2133720"/>
            <a:ext cx="3657600" cy="2438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454" name=""/>
          <p:cNvSpPr/>
          <p:nvPr/>
        </p:nvSpPr>
        <p:spPr>
          <a:xfrm>
            <a:off x="76320" y="2590920"/>
            <a:ext cx="5790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Thank You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A little bit about my self</a:t>
            </a: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D in organic chemistry from Weitzm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itute o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Jon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science programs during my stu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years experience in the pharmaceuti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ed “Active Science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 in programs for gifted ki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partner is my daughter, Maya who has a degree in nutrition and in busi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About Active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52388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cience” develops and operates unique enrichment programs in scienc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velop, build and field-test each and every kit, lesson or id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ur Goal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o bring Science into everyday life and to bring life into Science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Obstacles in science 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52388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imes, pupils find science lessons as b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imes, pupils recoil from study science because it seems diffic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imes, the teacher do not have the means or method to make  the lesson more inter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there is a gap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The gap between,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10080" y="3048120"/>
            <a:ext cx="2200320" cy="2419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3886200"/>
            <a:ext cx="415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way kids imag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udying sc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way kids act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tudy scienc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10080" y="1295280"/>
            <a:ext cx="2362320" cy="1621080"/>
            <a:chOff x="5410080" y="1295280"/>
            <a:chExt cx="2362320" cy="162108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5410080" y="1295280"/>
              <a:ext cx="23623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410080" y="1295280"/>
              <a:ext cx="2362320" cy="160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0880" y="5973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we do to overcome this ga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Simplicity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king simple experim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requi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ed equip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every kid something to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it can be replicated at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plaining in simple languag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use formulas &amp; eq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erms that are relevant to their l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F-THEN log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structure but keep an open-m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15772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1:23:21Z</dcterms:created>
  <dc:creator>Guest</dc:creator>
  <dc:description/>
  <dc:language>en-US</dc:language>
  <cp:lastModifiedBy>Alan McTavish</cp:lastModifiedBy>
  <dcterms:modified xsi:type="dcterms:W3CDTF">2008-10-25T19:14:02Z</dcterms:modified>
  <cp:revision>217</cp:revision>
  <dc:subject/>
  <dc:title>“ONE PICTURE EQUALS A THOUSAND WORDS”   “ONE EXPERIENCE IS WORTH A THOUSAND PICTURES”.</dc:title>
</cp:coreProperties>
</file>